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38335"/>
        <c:axId val="84778888"/>
      </c:barChart>
      <c:catAx>
        <c:axId val="72838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78888"/>
        <c:crosses val="autoZero"/>
        <c:auto val="1"/>
        <c:lblAlgn val="ctr"/>
        <c:lblOffset val="100"/>
        <c:noMultiLvlLbl val="0"/>
      </c:catAx>
      <c:valAx>
        <c:axId val="84778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38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52D-5692-4198-BE1D-537AB7D1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874-16E0-49CF-BDF3-7B278FCE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D2C-4D7C-416B-BAEB-318C4416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21B-3C05-4BA6-910A-A827A21E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AF3-551F-43DD-9F81-6EF4FC59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869-A6CE-4793-A35B-CEF3638D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225-BAD8-4D21-86C8-2106CAF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653-A4AE-4CC2-9D9C-2FF2E515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594-998D-4CE7-B72E-462E4B4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D42-BD61-44BA-99AB-8904FDE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FEB-DE6B-4F6D-B6F0-1B2CDA0E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9B6-4C61-4072-A19E-787D5B8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7A47-CAD0-46A4-BB5D-B0A698834C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