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52253"/>
        <c:axId val="56310316"/>
      </c:barChart>
      <c:catAx>
        <c:axId val="55252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0316"/>
        <c:crosses val="autoZero"/>
        <c:auto val="1"/>
        <c:lblAlgn val="ctr"/>
        <c:lblOffset val="100"/>
        <c:noMultiLvlLbl val="0"/>
      </c:catAx>
      <c:valAx>
        <c:axId val="56310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52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778-40AF-46E8-904A-4BC449DF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1FC-E464-444B-AD7C-4BE985E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27E-8BC1-441A-A002-23306F6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D82-3A5D-4E50-9E64-86B72C1F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EF3-0465-449A-8999-799B547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010-BBB3-4D93-98EE-84DBFF1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09F-4048-4339-B55D-BC94BF5D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76D-7F5D-4258-8FB2-10C1961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72B-1D7C-4D2E-9EEA-A283D175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EEA-F0F2-4125-950F-FB10C5B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7B4-775D-4A6F-96BE-BD11DBD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F06-BD8D-4F58-9E12-7938452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D8597-E42E-44F0-B84D-60A7616F0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