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6766"/>
        <c:axId val="70140199"/>
      </c:barChart>
      <c:catAx>
        <c:axId val="6986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0199"/>
        <c:crosses val="autoZero"/>
        <c:auto val="1"/>
        <c:lblAlgn val="ctr"/>
        <c:lblOffset val="100"/>
        <c:noMultiLvlLbl val="0"/>
      </c:catAx>
      <c:valAx>
        <c:axId val="70140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6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BC5-DC06-48F5-9AC3-4BB6AC9E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DDD-519E-4621-8A1B-D2A0A2C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00D-B4E4-4202-99BF-B8D7BB3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D3E-03A7-4189-9B3B-168D204D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502-2052-42D6-9986-D1163D18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19E-A2E6-4BAD-9414-614224F5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65D-CC8C-40FF-956D-60056DA4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A39-3473-4E33-8805-06712EC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6D7-8B31-49D3-B337-B025AF0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044-76DE-482F-861E-ADC305E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5A1-15B2-4759-B09F-5836864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1EC-C75A-435F-BC1B-E7B747C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DB9BA-638C-487B-9918-3331DA70D4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